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570B-3271-4DF9-8C15-5607F198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A63E-FD61-4B48-A495-9A66796B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B9F3-C6A7-4737-8C2C-2F85B6B0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2581-329D-4359-9B16-2946E8E1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1DC5-68E3-4213-B213-81C1228A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C558-D588-4001-94E8-54EC0DBC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EBDC-B96A-4EF7-8C40-8B87AB40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2663-3B4A-44DA-A8F9-68791616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4BF3-4429-4560-9E33-733576D5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A026-626B-4E0A-BCB8-E3D65724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AA53-015C-4F13-9F8F-613A0CF5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1228-AD06-439D-8A1B-8F0F857B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DF35-E168-42E4-9A9C-BC569A05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9082-2C3F-4005-9F80-CFE5B2B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B36A-F117-4E1B-B0DC-D2622AED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3A84-1047-4BC8-A7C6-CA684F50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D8B2-CF6F-4A05-8FFB-FE9D3BB9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242B-3F13-4BEB-A52B-521905F3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7095-F89B-4406-8E46-9E4D58D8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1174-4948-4D3C-8CE1-428DB9E2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8E13-D1B6-4620-B371-34FDA885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3AB0-85AE-4AAA-963A-3C49E844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3E02-8F92-4973-BE74-0CE10EBF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8854-0047-499B-8D09-A2A6E186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10C1-1B51-425B-A1BE-64509B4055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7EFB-92F3-4B0A-A7D1-039029B01C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797360"/>
            <a:ext cx="7677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ифровые процессоры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и сигналов фирм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правляет конвейерной обработкой команд, аппаратной организацией цик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ращением к подпрограммам и обслуживанием преры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тор адрес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декодирования коман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прерывани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мещ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начального адреса цикл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чик цикл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состоя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режима обработ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ный сте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указателя сте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P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ный сте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зового семейства процессо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ъемом 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ет до 7 цикл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15 прерываний, или 15 вложенных под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A/IR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 программного преры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ет четыре выв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/IRQ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установки режимов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риема маскируемых запросов на прерывание (управляющих сигналов)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ется для установки режима обработки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иема немаскируемых запросов на прерывание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уют конфигура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, Y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а также определяют процедуру запуска процессора после его выхода из состояния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для установки процессора в начальное состояние, называемое состоянием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атор тактовых импульсов(ГТИ) с фазовой автоподстройкой частоты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автоподстройкой частоты (ФАПЧ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ляет формировать тактовые импульсы высокой частоты внутри процессора при низкочастотном внешнем задающем генераторе. Границы диапазона тактовых частот регулируются от минимальной (обычно 10МГц) до максимальной, которая зависит от возможностей внешнего генератора и коэффициента умножения, устанавливаемого программно. В состоянии останова процессора генераторное оборудование остается активным, хотя ГТИ запирается, поэтому процессор переходит на минимально возможное потребление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ют три пор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щий разносторонний интерфейс с внешней памятью и внешней периферией как быстродействующей, так и низкоскоростной. Порт содержит внешнюю адресную 16-разрядную шину, внешнюю 24-разрядную шину данных и шину управления пор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управления обеспечивает управление чтением/записью по шине данных, выбор адресного пространства памяти и управление магистральной шиной при организации  многопроцессорной системы; обмен данными осуществляется в параллельном форм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оследовательного обмена данны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носятся к внутрикристальной периферии; способы их использования определяются специальными регистрами данных и состояния, размещенными во внутрикристальн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ет использоваться либо как порт ввода/вывода общего назначения, либо ка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терфейс. Второй вариант применяется в том случае, когда процессор входит в состав некоторой системы ЦОС и есть необходимость взаимодействия с ведущим процессоро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ом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мен данными осуществляется по 8-разрядной шине в последовательно-параллельном формате: 24-разрядные данные делятся на три байта, которые передаются в параллельном формате последовательно друг за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ый интерфейс, предназначенный для дуплексного асинхронного и синхронного обменов данными с внешней периферией. Направление передачи данных на выводах пор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программно. Прием/передача данных осуществляется последовательно, начиная с младшего (0-го) или старшего (23-го) бита 24-разрядного слова, которое, в свою очередь, передается побайтно. Формат асинхронного слова, кроме байта данных, содержит дополнительные служебные биты и поэтому может быть 10- или 11-разряд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аппаратным элементом системы отладки и работает под управлением ведущего компьютера, на который инсталлируют программные средства отладки. Эмулятор обеспечивает быстрый и независимый доступ к внутренним регистрам и периферии процессора для проверки их состояния. Связь между эмулятором и компьютером осуществляется с помощью специального устройства – внешнего контролл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контроллер и программные средства отладки поставляются фирмой-производителем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120" y="177336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32360" y="1125360"/>
            <a:ext cx="381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ор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кристалле функционально можно выделить две ча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ласть расш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 является основой любого процесс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тор тактовых импульсо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фазовой автоподстройкой частот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ФАПЧ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SP56K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554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318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403280" y="1773360"/>
            <a:ext cx="6527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омпоненты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ад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дстройкой частот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859280" y="1125360"/>
            <a:ext cx="3889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ласти расширения размещаю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программ и периферийные модули. Организация памяти определяется конкретным типом процес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центрального модуля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U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ратор тактовых импульсов ГТИ с фазовой автоподстройкой част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ФАПЧ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SP56000"/>
          <p:cNvPicPr/>
          <p:nvPr/>
        </p:nvPicPr>
        <p:blipFill>
          <a:blip r:embed="rId1"/>
          <a:stretch/>
        </p:blipFill>
        <p:spPr>
          <a:xfrm>
            <a:off x="395280" y="1341360"/>
            <a:ext cx="456876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4358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четыре двунаправленных 24-разрядных шины дан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по которой передаются ком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B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ых, обеспечивающая обмен данными с внутренней или внешн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пор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ерифер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ы для передачи данных 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ю, соответственно. При необходимости 24-разрядные 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гут быть объединены в одну 48-разрядную 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(24-разрядная) ш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еспечивает обмен данными с внутрикристальной и внешней перифериями. Обмен данными с внешней периферией может осуществляться через внешнюю шину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араллельном формате, 8-разрядную шину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фейса (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-параллельном формате и через п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м форма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у данных между шинами осущ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ключатель внутренних шин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ереключатель дополнительно содержит блок манипуляции битами, позволяющий управлять состоянием битов любого типа ячеек памяти данных и регист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, P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адресов используются для адресации ячеек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е однонаправленные шины адресов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д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вунаправлен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адреса про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а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ация внешней памяти осуществляется через единственную однонаправленную шину, которая подключается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ыбором шины управляет переключатель внешней шины адреса – мультиплексор с тремя в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дресации внешней памяти необходимо учитывать, что в одном командном цикле доступно только одно пространство внешней памяти. В этом случае командный цикл реализуется без дополнительной задержки. Обращение к внешним пространствам памяти контролирует устройство управления ш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выполняет все арифметические и логические операции над операндами. 24-разрядные процессоры базового семей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ют в своем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 24-разрядных входных регис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56-разрядных аккумулятора, каждый из которых содержит 48-разрядный регистр аккумулятора и 8-разрядный регистр расши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сдвигателя/ограничителя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ьное одноцикловое устройство умножения с накоп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расширения хранят целую часть результата. Ее максимальное значение по модулю равно 255. Возможе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жим насы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гласно которому, если 48-разрядный результат операции оказывается больше максимально допустимого (при переполнении) либо меньше минимального допустимого (при потере значимости), в процессоре автоматически устанавливается соответствующая амплитуда насы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ные регистры могут объединяться в пары, удваивая таким образом разрядность обрабатываем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олняет все операции, связанные с определением и хранением адресов в режиме косвенной адресации. Это устройство работает независимо от остальных блоков процессора. Формирование адреса происходит параллельно с другими операциями процессора. Процессоры фир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ют чрезвычайно мощной системой адресации, позволяющей производить манипуляции с данными за один командный ц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ят два одинаковых арифметических блока, формирующие два 16-разрядных адреса в каждом командном цикле. При формировании адреса могут использоваться три типа арифметики: линейная, модульная и бит-реверсив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7:13Z</dcterms:modified>
  <cp:revision>9</cp:revision>
  <dc:subject/>
  <dc:title>Микропроцессорные системы</dc:title>
</cp:coreProperties>
</file>